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2A8-1C30-493F-8148-2F9415836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73C1-8178-42DC-BDD6-7A56F1FE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9263-51BE-46FE-95E5-F101C77B0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14D-F78C-46BE-A05E-143844486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6547-4B9D-4815-99DF-48105330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3FBE-814A-4294-A08B-F757D39E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18A6-A541-40B6-B098-771D604E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EBA6-93CD-41B3-8915-CF15E514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0D85-8D7B-466F-83E4-1DFB68F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96A-A2C6-4B09-A918-40DCD6C8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B98-706A-436D-A9DE-5F4D8EE6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DB78-17B8-4D82-A03F-C15693288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DE8B-195C-4396-BED2-082427298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624852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Projet par: Ioana Co. cls. a IX-a B.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6553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500"/>
            </a:br>
            <a:br>
              <a:rPr sz="3500"/>
            </a:br>
            <a:br>
              <a:rPr sz="35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Desserts (mousse au chocolat )</a:t>
            </a: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3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Ingrédients: chocolat 700 Gr., 2 oeufs, sucre vanillé, 200 g crème, un petit verre de Cognac ou liqueur, </a:t>
            </a: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noisettes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743200" y="2438280"/>
            <a:ext cx="4343400" cy="40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ci pour votre atten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Table des mati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harcute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romages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Boiss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es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066680" y="2362320"/>
            <a:ext cx="274320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Charcuterie</a:t>
            </a:r>
            <a:br>
              <a:rPr sz="4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L'une des spécialités de France, connue dans le monde entier est « fois gras ».Il est rare, parce qu'il se prépare très compliqué mais très savoureux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52280" y="3657600"/>
            <a:ext cx="88394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0" lang="en-US" sz="3100" spc="-1" strike="noStrike">
                <a:solidFill>
                  <a:srgbClr val="800000"/>
                </a:solidFill>
                <a:latin typeface="Arial"/>
              </a:rPr>
              <a:t>À l'origine de fromage. </a:t>
            </a:r>
            <a:r>
              <a:rPr b="0" lang="fr-FR" sz="3100" spc="-1" strike="noStrike">
                <a:solidFill>
                  <a:srgbClr val="800000"/>
                </a:solidFill>
                <a:latin typeface="Arial"/>
              </a:rPr>
              <a:t>En France, actuellement il y a 56 différentes variétés de fromage.</a:t>
            </a:r>
            <a:br>
              <a:rPr sz="3100"/>
            </a:b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1574640"/>
            <a:ext cx="7772400" cy="51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r>
              <a:rPr b="0" lang="en-US" sz="3000" spc="-1" strike="noStrike">
                <a:solidFill>
                  <a:srgbClr val="800000"/>
                </a:solidFill>
                <a:latin typeface="Arial"/>
              </a:rPr>
              <a:t>Moule de fromage, bleu-vert. </a:t>
            </a: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Considéré comme un véritable trésor national, le fromage Roquefort est connu depuis plus de 2000 ans</a:t>
            </a:r>
            <a:r>
              <a:rPr b="0" lang="fr-FR" sz="4000" spc="-1" strike="noStrike">
                <a:solidFill>
                  <a:srgbClr val="800000"/>
                </a:solidFill>
                <a:latin typeface="Arial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Roquefort"/>
          <p:cNvPicPr/>
          <p:nvPr/>
        </p:nvPicPr>
        <p:blipFill>
          <a:blip r:embed="rId1"/>
          <a:stretch/>
        </p:blipFill>
        <p:spPr>
          <a:xfrm>
            <a:off x="1676520" y="1905120"/>
            <a:ext cx="62481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fr-FR" sz="3000" spc="-1" strike="noStrike">
                <a:solidFill>
                  <a:srgbClr val="800000"/>
                </a:solidFill>
                <a:latin typeface="Arial"/>
              </a:rPr>
              <a:t>Fromages à moisissure blanche, camembert. Un de plus populaire sortes de fromage, Camembert est primitif en Normandie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Camembert"/>
          <p:cNvPicPr/>
          <p:nvPr/>
        </p:nvPicPr>
        <p:blipFill>
          <a:blip r:embed="rId1"/>
          <a:stretch/>
        </p:blipFill>
        <p:spPr>
          <a:xfrm>
            <a:off x="1143000" y="1752480"/>
            <a:ext cx="7010280" cy="496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00000"/>
                </a:solidFill>
                <a:latin typeface="Arial"/>
              </a:rPr>
              <a:t>Fromages à moisissure blanche,brie. Au XIXe siècle, était considéré comme le fromage fin en Europe. Toujours servir les fromages avec du v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Brie de Meaux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51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0000"/>
                </a:solidFill>
                <a:latin typeface="Arial"/>
              </a:rPr>
              <a:t>Un vin de qualité est un vin françai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40080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Desserts (crêpes) </a:t>
            </a:r>
            <a:br>
              <a:rPr sz="2500"/>
            </a:b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Ingrédients: la farine,  les oeufs, l’ huile, l'eau minérale, du sucre, un peu du lait, le sel. Mode de préparation: Dans un grand bol,nous melanjons les oeufs et la farine.Nous ajouter le lait et l’eau tous les deux. Apres la sel et le beurre et nous melanjons. Poele chaude a feu moyen, nous avons ensuite le beurre. Chaque cuire crepes prendre un couple de minutes jusqu’a ce que brun claire. Savoir chaud avec nutella ou les banan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90720" y="3809880"/>
            <a:ext cx="3124080" cy="2845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95680" y="3657600"/>
            <a:ext cx="396252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6T10:06:35Z</dcterms:created>
  <dc:creator>ioana</dc:creator>
  <dc:description/>
  <dc:language>en-US</dc:language>
  <cp:lastModifiedBy>ioana</cp:lastModifiedBy>
  <dcterms:modified xsi:type="dcterms:W3CDTF">2012-05-06T19:45:23Z</dcterms:modified>
  <cp:revision>7</cp:revision>
  <dc:subject/>
  <dc:title>Slide 1</dc:title>
</cp:coreProperties>
</file>